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3.png" ContentType="image/png"/>
  <Override PartName="/ppt/media/image15.wmf" ContentType="image/x-wmf"/>
  <Override PartName="/ppt/media/image14.wmf" ContentType="image/x-wmf"/>
  <Override PartName="/ppt/media/image9.wmf" ContentType="image/x-wmf"/>
  <Override PartName="/ppt/media/image2.png" ContentType="image/png"/>
  <Override PartName="/ppt/media/image10.png" ContentType="image/png"/>
  <Override PartName="/ppt/media/image5.wmf" ContentType="image/x-wmf"/>
  <Override PartName="/ppt/media/image6.gif" ContentType="image/gif"/>
  <Override PartName="/ppt/media/image17.wmf" ContentType="image/x-wmf"/>
  <Override PartName="/ppt/media/image7.wmf" ContentType="image/x-wmf"/>
  <Override PartName="/ppt/media/image8.png" ContentType="image/png"/>
  <Override PartName="/ppt/media/image16.wmf" ContentType="image/x-wmf"/>
  <Override PartName="/ppt/media/image12.wmf" ContentType="image/x-wmf"/>
  <Override PartName="/ppt/media/image1.gif" ContentType="image/gif"/>
  <Override PartName="/ppt/media/image4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2170-C34D-448A-85AD-451F8451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605-CF37-48D0-B8F6-14334AB3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F6F1A-A297-4A19-8F23-598BC73B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CB917-66FC-4941-A59B-ACB27A72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EB72B-050D-4525-9046-5C1EDE7F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28248-CC5F-4824-B61C-8819CBA4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DBA39-3A8F-47F3-A7FC-ABAB6BA3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04274-1CA8-4E4A-B833-D400DC4A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8A473-8B3E-49D5-8663-A8620D60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3A737-FA3C-42B3-A638-FC6AE823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A8EC3-6BF5-4C72-A5B0-BDDB224D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46BF7-07EA-4567-922D-98224B00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A68B-AA3A-4039-ADF9-CC5EF4D1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59BEE-5640-414C-B443-6FEADDB9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38756-5C52-420B-8360-350DD217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CC5D2-4058-4891-BC7E-ACFCB065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CB541-BC0A-4F9A-9E53-DE664535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AB4B9-D44C-4FD3-8D1E-E703D860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005D4-1EDE-4136-80F1-3D6488BF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E5C4F-BE4B-4A7F-A289-B0FC9167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6147B-D54D-4602-B8AE-5F50D5A4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797C6-1B83-4385-B7AF-1F6ED8B2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25284-C6F4-43B5-81BC-F7E4E916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6236-4B38-4ACD-8A17-60AF6B04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FBAE7-6D97-4F55-BB49-819A82EB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EFABE-13C4-49D7-80B3-667F847E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04CF0-8162-47E6-A09E-53B70E40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36711-7285-4D1E-8B0A-C75C9AC1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92968-9DC4-465F-AE59-FA0FA9BC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A6922-FA83-4684-85BD-66D64A34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40362-3062-420D-AA1B-1B4C1613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E4E2F-3477-4A8E-B2E1-6B9C8367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E4A24-BE5F-4390-ACFF-007F409D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A6B9D-4008-4A8A-BF15-1D2CFFC0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75BD-52C6-4322-989E-6667C5C9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34EF3-6BA7-4BFD-A21B-27D6CC95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C37AB-444D-45E2-88B2-102E0D0F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0A999-C268-4CB8-B64B-AB7ED410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7C820-ECE0-4C32-A22F-B258FA0B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C1238-76DB-4D36-93E0-1A6B8945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D3CCC-5976-4687-AE6F-2D58DF58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49DB7-D508-497C-AEE6-B7F85393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10C06-D490-428A-9CFF-97AE08BF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A8447-6752-46C2-8112-4482AC56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62697-1574-4D82-970F-120B1599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62F2-9056-4B82-BA70-25593558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2CBC3-1368-4AC2-88DE-94CCBF79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48EA3-4A3E-432F-A5B3-F3326476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A0D63-F2B8-49DC-B793-1B002D3D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503E5-6D13-4CC7-9229-13E4C489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84238-B045-4C42-991B-8DA2CF94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3D8AD6-9CBB-4AD4-98EC-670B2840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0C4D94-0CF3-4990-92C7-3F4FD24A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AD3BC-8C15-4DFC-B38C-496FA3A6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87EE5-F553-4DB1-9943-00450CAA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0A761-F616-484E-9622-D8104F0A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A614-1DB6-429D-99D0-11D07C06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588B8B-0F5D-4A45-8097-346C893C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B7AA33-744D-4C13-8737-45199EB6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5E8148-DBF6-4EA2-8272-9D79869E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FBF73F-39FE-4699-8FCE-EFE71BF2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4974E0-885D-48A2-A197-F31CE22F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55A950-7A07-4806-AA88-A72297A0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BD41C6-DF7A-44B5-9666-DBC6ED8D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0A98-3BD9-42A4-81D0-BADA0A6E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49B2-231E-48E5-89A2-15DF8963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35A6-8990-45C3-B6B6-17384C11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9F09-2C00-4CAA-A3B5-54A73F13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6017-281B-4AE8-98DD-CBFC4265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856A-9CCC-4B13-B136-D16317E9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9786-A5ED-47E0-AC80-1D0B963E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F283-0D94-433A-BA9C-6DE564BA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5DF3-8C0C-42BF-A18A-5D65FCE2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DA9F-5537-4F46-AA4C-869CC53A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67AC8-4E87-4310-B4F4-A253A34C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5BF1C-8731-4D5A-9640-F24F2EFF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24B4F-D83D-4939-BD3B-CFBCE051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423BE-2CD0-4417-8C52-01C924CF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1D49E-48E9-438A-89A6-B7988747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9EB-B6DC-4C8E-AA72-C02519E3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C14EB-DEC9-476E-A553-985A5647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9DEA5-25C6-49D2-91EB-A8450F09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A450B-CC31-440B-8985-B38A430D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19049-59A0-4116-8497-7E6377E6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ABC14-10FC-485C-9385-FD483A1A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51DAD-C356-49D0-82C1-198F5044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AFA03-C7BE-47EE-852E-EC33B3DD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62231-FEA4-4B5C-B429-17B56144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666BC-2D0B-400A-9995-2C0F5C20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DE57B-58C2-4B55-AC50-AA847C7A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230-D586-4A4B-A4BE-7B1A320E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2DD38-593B-45CB-B12A-AD609527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440BE-C0D4-4DA0-BEA2-36407788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A902C-FBAE-4167-BB1E-F7DBDD69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AA80B-E04D-49E0-8A89-AB30C9AC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CDAAA-3E4A-45EF-86FD-63056980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DFBB5-58ED-4AC5-9757-E6128AF7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40067-FDDE-4D40-8105-2C951431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A393F-B2F3-4605-BC90-2CDFF481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C0C3C-9EB0-4983-8EF6-76055D60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53B6E-4034-4227-95AA-047840F8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F17A-97BE-4F11-90EB-A93BE631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858CA-1382-4412-A3F9-885507ED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47566-503A-429B-9F8E-ED0D5345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97944-FD64-49B3-9DDF-F46218B7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1918F-00B6-4AB7-9A52-D6152120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9237E-F203-4A5C-AD91-19A458DC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A9B8C-4AC9-406F-936C-77740014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2F0F9-15AC-40F1-833B-2513D973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C9E04-D713-4BEA-AECA-61A2EB99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6F3B2-AE08-4F4C-96A9-EBE43D87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68709-6CBE-4906-B6F3-E7D25264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8399-7CDC-4149-9BEB-0F1F74C8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5F08F-B098-4CA0-A323-B5D6A0B9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38756-56F3-40AE-9AAC-2ACF1DC6B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4D20C-3143-4265-A640-229B6FB2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4D08E-FD93-41EB-BCC9-4FD9BAC8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3F177-C6B4-4D3C-9CA3-4DF9F405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3FD44-F48E-47BE-8A86-462DF07C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5BFBA-F2DE-40BC-AC0E-181C567D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7BE29-6B84-4CF9-AD26-8B3DD96A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FDCEB-02CF-470F-9596-D71556CB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EE199-5234-4F55-BF7E-1DD32920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9AF-2347-475E-B9D0-8DC8999F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759D8-DB06-491B-807C-0055598A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B6E6A-2975-43B8-B828-3358F9CF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BD3B3-8CC2-4C45-9AD3-5F625F58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2B5A2-83EC-4609-ACB1-3014F2A0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7EF49-4277-4463-98F3-BABCFF25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004E2-DAFC-420C-8151-57D37137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B3884-6C4C-4467-9301-CD58FF97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FE2CE-6BE4-461B-8CA7-09811B56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7C244-E8CF-4146-B3AE-3DF11AFD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C65A1-E209-40D3-B290-EC3B3E7C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7C9D-F948-40BC-8D2B-6C33F18C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141CB-0394-45ED-9770-CE1F40DB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4A5C4-9768-4648-950A-448EA27B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DD075-7FC4-4E77-B2EC-44277363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A6583-AEE0-4133-A51C-56AF471A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F3D0D-7F9C-4166-BCB4-E39C5A5E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8AFE6-0A87-45B3-A0A0-E729AB60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1BD66-94D9-4FD2-918D-8CE09702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0D0CB-4D98-4C4A-9736-55210EC4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AA4CE-B3E7-4D23-99B4-333A8562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6FB56-AD48-46C2-B975-D8CA04C9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C54-25BA-4A3A-9E12-4AF6CD7C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EF8F2-52C7-4927-B3BF-5323C879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DA305-49FF-458F-BEFE-F21B7740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2A85A-BF75-4E7E-99C1-42AC6023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3F635-88F4-4277-A585-6046408B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1F3C2-2280-4431-A080-BFAAE677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7A821-0EA6-4791-8756-CBF1FA64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9F490-8A14-4C4B-8208-7417185C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FB248-AE1F-47A2-BBAF-6BD316E6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C48CB-784D-4857-81B2-6EB075A9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C906D-4E34-4DD8-8BBE-17317CD9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5F25-F059-425D-8192-23CE5270FE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B2F8-D955-4B8B-BDCB-9A9642946D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8E72-5A41-4C11-B937-D835F6818F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EDBA-CF57-4366-A91D-1127722F82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74AB-FCBD-483C-A536-234F414B26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C2CF-203C-4A78-B25A-25CD35FAEA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2F08-DAD5-4E9B-AE7E-6550F8C3F7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800A-AA95-4FA9-BD27-BE2A3D7766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3F6A-6F9B-4B2B-84E8-125D6C20D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49C2-7AF1-4FBD-9C9D-9939DA7D4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58C7-DEF8-4FB0-B927-47C96C9C1E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011D-6FB5-4C7C-9E63-C151B231A5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CB0F-0875-49C5-8948-96AEC996F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rspmartin.wikispaces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ahoo.com/" TargetMode="External"/><Relationship Id="rId2" Type="http://schemas.openxmlformats.org/officeDocument/2006/relationships/hyperlink" Target="http://www.bing.com/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hyperlink" Target="http://www.ask.com/" TargetMode="External"/><Relationship Id="rId5" Type="http://schemas.openxmlformats.org/officeDocument/2006/relationships/hyperlink" Target="http://www.dogpile.com/" TargetMode="External"/><Relationship Id="rId6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eb.mit.edu/invent/iow/bishop.html" TargetMode="External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Sa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9" name="WordArt 4"/>
          <p:cNvSpPr txBox="1"/>
          <p:nvPr/>
        </p:nvSpPr>
        <p:spPr>
          <a:xfrm>
            <a:off x="2362320" y="914400"/>
            <a:ext cx="4647960" cy="28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th Grad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0" name="Picture 5" descr="crankylibrarian"/>
          <p:cNvPicPr/>
          <p:nvPr/>
        </p:nvPicPr>
        <p:blipFill>
          <a:blip r:embed="rId1"/>
          <a:stretch/>
        </p:blipFill>
        <p:spPr>
          <a:xfrm>
            <a:off x="152280" y="1143000"/>
            <a:ext cx="16891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Create slides for a Microsoft PowerPoint presentation using Internet resourc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26" name="Picture 4" descr="j0232092"/>
          <p:cNvPicPr/>
          <p:nvPr/>
        </p:nvPicPr>
        <p:blipFill>
          <a:blip r:embed="rId1"/>
          <a:stretch/>
        </p:blipFill>
        <p:spPr>
          <a:xfrm>
            <a:off x="0" y="2819520"/>
            <a:ext cx="251136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3"/>
          <p:cNvSpPr/>
          <p:nvPr/>
        </p:nvSpPr>
        <p:spPr>
          <a:xfrm>
            <a:off x="0" y="201600"/>
            <a:ext cx="784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8" name="Text Box 4"/>
          <p:cNvSpPr/>
          <p:nvPr/>
        </p:nvSpPr>
        <p:spPr>
          <a:xfrm>
            <a:off x="380880" y="1143000"/>
            <a:ext cx="77724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and"/>
                <a:ea typeface="Times New Roman"/>
              </a:rPr>
              <a:t>Create Paint document using a tool palette; edit, save, and insert into Word or PowerPoint documen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29" name="Object 5"/>
          <p:cNvGraphicFramePr/>
          <p:nvPr/>
        </p:nvGraphicFramePr>
        <p:xfrm>
          <a:off x="6019920" y="3352680"/>
          <a:ext cx="16002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352680"/>
                    <a:ext cx="16002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Create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rious spreadsheets in 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Microsoft Excel enter values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bels, 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formulas, and crea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a graph from dat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32" name="Object 4"/>
          <p:cNvGraphicFramePr/>
          <p:nvPr/>
        </p:nvGraphicFramePr>
        <p:xfrm>
          <a:off x="5029200" y="3352680"/>
          <a:ext cx="4114800" cy="22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352680"/>
                    <a:ext cx="4114800" cy="22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4" name=""/>
          <p:cNvGraphicFramePr/>
          <p:nvPr/>
        </p:nvGraphicFramePr>
        <p:xfrm>
          <a:off x="0" y="-1676520"/>
          <a:ext cx="8991720" cy="6326280"/>
        </p:xfrm>
        <a:graphic>
          <a:graphicData uri="http://schemas.openxmlformats.org/drawingml/2006/table">
            <a:tbl>
              <a:tblPr/>
              <a:tblGrid>
                <a:gridCol w="1646280"/>
                <a:gridCol w="1706400"/>
                <a:gridCol w="1660680"/>
                <a:gridCol w="1693800"/>
                <a:gridCol w="228456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d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io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ay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arch h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April H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ay H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June H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Baer, Jos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rowley, Pau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Howell, Meg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Lagam, Mer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harr, Sloa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Sousa, Be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eam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SUM(B5:B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SUM(C5:C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SUM(D5:D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SUM(E5:E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61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eam Avera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AVERAGE(B5:B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AVERAGE(C5:C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AVERAGE(D5:D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=AVERAGE(E5:E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Create a Microsoft Access databas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edit, sort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mat and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create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bels, etc.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rcRect l="11669" t="21110" r="19170" b="155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Create Microsoft Publisher documen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9" name="Picture 4" descr="j0215217"/>
          <p:cNvPicPr/>
          <p:nvPr/>
        </p:nvPicPr>
        <p:blipFill>
          <a:blip r:embed="rId1"/>
          <a:stretch/>
        </p:blipFill>
        <p:spPr>
          <a:xfrm>
            <a:off x="5943600" y="3962520"/>
            <a:ext cx="1976400" cy="20336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5" descr="j0285636"/>
          <p:cNvPicPr/>
          <p:nvPr/>
        </p:nvPicPr>
        <p:blipFill>
          <a:blip r:embed="rId2"/>
          <a:stretch/>
        </p:blipFill>
        <p:spPr>
          <a:xfrm>
            <a:off x="380880" y="533520"/>
            <a:ext cx="1814760" cy="160488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6" descr="j0238147"/>
          <p:cNvPicPr/>
          <p:nvPr/>
        </p:nvPicPr>
        <p:blipFill>
          <a:blip r:embed="rId3"/>
          <a:stretch/>
        </p:blipFill>
        <p:spPr>
          <a:xfrm>
            <a:off x="3352680" y="533520"/>
            <a:ext cx="2549520" cy="164124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7" descr="MCj02868330000[1]"/>
          <p:cNvPicPr/>
          <p:nvPr/>
        </p:nvPicPr>
        <p:blipFill>
          <a:blip r:embed="rId4"/>
          <a:stretch/>
        </p:blipFill>
        <p:spPr>
          <a:xfrm>
            <a:off x="1676520" y="3962520"/>
            <a:ext cx="1555560" cy="15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Save and retrieve information appropriately from personal folder or web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4" name="Picture 4" descr="j0237458"/>
          <p:cNvPicPr/>
          <p:nvPr/>
        </p:nvPicPr>
        <p:blipFill>
          <a:blip r:embed="rId1"/>
          <a:stretch/>
        </p:blipFill>
        <p:spPr>
          <a:xfrm>
            <a:off x="5257800" y="4191120"/>
            <a:ext cx="2478240" cy="221904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5" descr="j0285456"/>
          <p:cNvPicPr/>
          <p:nvPr/>
        </p:nvPicPr>
        <p:blipFill>
          <a:blip r:embed="rId2"/>
          <a:stretch/>
        </p:blipFill>
        <p:spPr>
          <a:xfrm>
            <a:off x="1219320" y="3200400"/>
            <a:ext cx="181296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TextBox 1"/>
          <p:cNvSpPr/>
          <p:nvPr/>
        </p:nvSpPr>
        <p:spPr>
          <a:xfrm>
            <a:off x="304920" y="3808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Use free downloadable software and  web 2.0 tools  when appropriate to enhance learning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TextBox 2"/>
          <p:cNvSpPr/>
          <p:nvPr/>
        </p:nvSpPr>
        <p:spPr>
          <a:xfrm>
            <a:off x="1295280" y="380880"/>
            <a:ext cx="67820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cratch – animation progra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udacity – Sound Recorder – maximum of 8 overlapping sound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x Type/Pai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ogle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arth – virtual 3 D map of Eart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cs  - offer free use of word processing, spreadsheet and  presentation  software (only for students with email address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TextBox 1"/>
          <p:cNvSpPr/>
          <p:nvPr/>
        </p:nvSpPr>
        <p:spPr>
          <a:xfrm>
            <a:off x="0" y="0"/>
            <a:ext cx="9144000" cy="7103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e5"/>
                </a:solidFill>
                <a:latin typeface="Arial"/>
                <a:ea typeface="Arial"/>
              </a:rPr>
              <a:t>Visit my website at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Arial"/>
                <a:ea typeface="Arial"/>
                <a:hlinkClick r:id="rId1"/>
              </a:rPr>
              <a:t>http://mrspmartin.wikispaces.com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2" name="Picture 4" descr=""/>
          <p:cNvPicPr/>
          <p:nvPr/>
        </p:nvPicPr>
        <p:blipFill>
          <a:blip r:embed="rId2"/>
          <a:srcRect l="0" t="0" r="10982" b="0"/>
          <a:stretch/>
        </p:blipFill>
        <p:spPr>
          <a:xfrm>
            <a:off x="0" y="1295280"/>
            <a:ext cx="9144000" cy="577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49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roduce and reinforce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asic 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skill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Learn about search engines on the Internet to narrow down a topic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0" name="Text Box 4"/>
          <p:cNvSpPr/>
          <p:nvPr/>
        </p:nvSpPr>
        <p:spPr>
          <a:xfrm>
            <a:off x="685800" y="838080"/>
            <a:ext cx="2743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Comic Sans MS"/>
                <a:hlinkClick r:id="rId1"/>
              </a:rPr>
              <a:t>Yaho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1" name="Text Box 5"/>
          <p:cNvSpPr/>
          <p:nvPr/>
        </p:nvSpPr>
        <p:spPr>
          <a:xfrm>
            <a:off x="2590920" y="609480"/>
            <a:ext cx="327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Comic Sans MS"/>
                <a:hlinkClick r:id="rId2"/>
              </a:rPr>
              <a:t>B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2" name="Text Box 6"/>
          <p:cNvSpPr/>
          <p:nvPr/>
        </p:nvSpPr>
        <p:spPr>
          <a:xfrm>
            <a:off x="3124080" y="1828800"/>
            <a:ext cx="2667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Comic Sans MS"/>
                <a:hlinkClick r:id="rId3"/>
              </a:rPr>
              <a:t>Goog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3" name="Text Box 9"/>
          <p:cNvSpPr/>
          <p:nvPr/>
        </p:nvSpPr>
        <p:spPr>
          <a:xfrm>
            <a:off x="6095880" y="1143000"/>
            <a:ext cx="1905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Comic Sans MS"/>
                <a:hlinkClick r:id="rId4"/>
              </a:rPr>
              <a:t>Askjeev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4" name="Text Box 10"/>
          <p:cNvSpPr/>
          <p:nvPr/>
        </p:nvSpPr>
        <p:spPr>
          <a:xfrm>
            <a:off x="5029200" y="5410080"/>
            <a:ext cx="228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Comic Sans MS"/>
                <a:hlinkClick r:id="rId5"/>
              </a:rPr>
              <a:t>Dogpi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Investigate the validity of information presented in Web sit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Cite references from electronic sourc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7" name="Line 11"/>
          <p:cNvSpPr/>
          <p:nvPr/>
        </p:nvSpPr>
        <p:spPr>
          <a:xfrm flipH="1">
            <a:off x="6248160" y="13716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58" name="Group 13"/>
          <p:cNvGrpSpPr/>
          <p:nvPr/>
        </p:nvGrpSpPr>
        <p:grpSpPr>
          <a:xfrm>
            <a:off x="533520" y="609480"/>
            <a:ext cx="7619400" cy="2577960"/>
            <a:chOff x="533520" y="609480"/>
            <a:chExt cx="7619400" cy="2577960"/>
          </a:xfrm>
        </p:grpSpPr>
        <p:sp>
          <p:nvSpPr>
            <p:cNvPr id="1159" name="Rectangle 4"/>
            <p:cNvSpPr/>
            <p:nvPr/>
          </p:nvSpPr>
          <p:spPr>
            <a:xfrm>
              <a:off x="1461240" y="1523880"/>
              <a:ext cx="6128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emelson-MIT Program,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Hazel Bishop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, January 18, 2006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99"/>
                  </a:solidFill>
                  <a:uFillTx/>
                  <a:latin typeface="Comic Sans MS"/>
                  <a:hlinkClick r:id="rId1"/>
                </a:rPr>
                <a:t>http://web.mit.edu/invent/iow/bishop.html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0" name="Text Box 5"/>
            <p:cNvSpPr/>
            <p:nvPr/>
          </p:nvSpPr>
          <p:spPr>
            <a:xfrm>
              <a:off x="533520" y="60948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Comic Sans MS"/>
                </a:rPr>
                <a:t>Corporation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1" name="Text Box 6"/>
            <p:cNvSpPr/>
            <p:nvPr/>
          </p:nvSpPr>
          <p:spPr>
            <a:xfrm>
              <a:off x="4190760" y="7617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Comic Sans MS"/>
                </a:rPr>
                <a:t>title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2" name="Text Box 7"/>
            <p:cNvSpPr/>
            <p:nvPr/>
          </p:nvSpPr>
          <p:spPr>
            <a:xfrm>
              <a:off x="6172200" y="99036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Comic Sans MS"/>
                </a:rPr>
                <a:t>Date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Comic Sans MS"/>
                </a:rPr>
                <a:t>accessed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3" name="Text Box 8"/>
            <p:cNvSpPr/>
            <p:nvPr/>
          </p:nvSpPr>
          <p:spPr>
            <a:xfrm>
              <a:off x="2514600" y="2819160"/>
              <a:ext cx="28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Comic Sans MS"/>
                </a:rPr>
                <a:t>Internet addres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4" name="Line 9"/>
            <p:cNvSpPr/>
            <p:nvPr/>
          </p:nvSpPr>
          <p:spPr>
            <a:xfrm>
              <a:off x="1676160" y="990360"/>
              <a:ext cx="68544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5" name="Line 10"/>
            <p:cNvSpPr/>
            <p:nvPr/>
          </p:nvSpPr>
          <p:spPr>
            <a:xfrm>
              <a:off x="4572000" y="106668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6" name="Line 12"/>
            <p:cNvSpPr/>
            <p:nvPr/>
          </p:nvSpPr>
          <p:spPr>
            <a:xfrm flipV="1">
              <a:off x="3352680" y="2285640"/>
              <a:ext cx="53316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Times New Roman"/>
              </a:rPr>
              <a:t>The knowledge gained from these objectives will be used in student created projects and presentations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sz="3200" spc="-1" strike="noStrike">
                <a:solidFill>
                  <a:srgbClr val="ffffff"/>
                </a:solidFill>
                <a:latin typeface="Times New Roman"/>
              </a:rPr>
              <a:t>tudents will apply these principles to other subject areas. We want to make computers an enjoyable learning experience for all student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Students are expected to follow the classroom expectations as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viously reviewed in class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69" name="Picture 4" descr="j0311866"/>
          <p:cNvPicPr/>
          <p:nvPr/>
        </p:nvPicPr>
        <p:blipFill>
          <a:blip r:embed="rId1"/>
          <a:stretch/>
        </p:blipFill>
        <p:spPr>
          <a:xfrm>
            <a:off x="3581280" y="4724280"/>
            <a:ext cx="181476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440" y="1752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uter Education</a:t>
            </a:r>
            <a:br>
              <a:rPr sz="4000"/>
            </a:br>
            <a:br>
              <a:rPr sz="4000"/>
            </a:b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Teache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Mrs. Marti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4" name="Rectangle 3"/>
          <p:cNvSpPr/>
          <p:nvPr/>
        </p:nvSpPr>
        <p:spPr>
          <a:xfrm>
            <a:off x="2743200" y="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isit my website at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ttp://mrspmartin.wikispaces.com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522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The Following Objectives Will Be Covered This Year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6840" y="304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Complete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yping </a:t>
            </a:r>
            <a:br>
              <a:rPr sz="4000"/>
            </a:b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to a level later to be determine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7" name="j0289582.jpg" descr=""/>
          <p:cNvPicPr/>
          <p:nvPr/>
        </p:nvPicPr>
        <p:blipFill>
          <a:blip r:embed="rId1"/>
          <a:stretch/>
        </p:blipFill>
        <p:spPr>
          <a:xfrm>
            <a:off x="5638680" y="380880"/>
            <a:ext cx="250848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1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1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9" name="Picture 3" descr=""/>
          <p:cNvPicPr/>
          <p:nvPr/>
        </p:nvPicPr>
        <p:blipFill>
          <a:blip r:embed="rId1"/>
          <a:srcRect l="18336" t="17778" r="18336" b="17778"/>
          <a:stretch/>
        </p:blipFill>
        <p:spPr>
          <a:xfrm>
            <a:off x="304920" y="114480"/>
            <a:ext cx="8610480" cy="65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2"/>
          <p:cNvSpPr/>
          <p:nvPr/>
        </p:nvSpPr>
        <p:spPr>
          <a:xfrm>
            <a:off x="0" y="83808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Sand"/>
                <a:ea typeface="Times New Roman"/>
              </a:rPr>
              <a:t>Become acquainted with ribbons in Microsoft Word 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e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Microsoft Word </a:t>
            </a:r>
            <a:br>
              <a:rPr sz="4400"/>
            </a:b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processing documen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following </a:t>
            </a:r>
            <a:br>
              <a:rPr sz="4400"/>
            </a:b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specific written directions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22" name="Picture 4" descr="MCj02325870000[1]"/>
          <p:cNvPicPr/>
          <p:nvPr/>
        </p:nvPicPr>
        <p:blipFill>
          <a:blip r:embed="rId1"/>
          <a:stretch/>
        </p:blipFill>
        <p:spPr>
          <a:xfrm>
            <a:off x="5181480" y="3505320"/>
            <a:ext cx="3381480" cy="26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Create PowerPoin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slide show using toolbars, inserting textboxes, pictures, and formatting slid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24" name="Picture 6" descr="j0283804"/>
          <p:cNvPicPr/>
          <p:nvPr/>
        </p:nvPicPr>
        <p:blipFill>
          <a:blip r:embed="rId1"/>
          <a:stretch/>
        </p:blipFill>
        <p:spPr>
          <a:xfrm>
            <a:off x="4724280" y="4191120"/>
            <a:ext cx="1943280" cy="174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6:57:03Z</dcterms:created>
  <dc:creator>PMartin</dc:creator>
  <dc:description/>
  <dc:language>en-US</dc:language>
  <cp:lastModifiedBy>Patricia Martin</cp:lastModifiedBy>
  <dcterms:modified xsi:type="dcterms:W3CDTF">2012-08-20T01:42:05Z</dcterms:modified>
  <cp:revision>33</cp:revision>
  <dc:subject/>
  <dc:title>     </dc:title>
</cp:coreProperties>
</file>